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698-0E04-4EED-86AD-5F40FE54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9B1-76D4-45CA-9871-62A9719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9B6-1EA7-4EC5-B83A-3615D807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413-B964-4445-BB6F-FA6ADF3F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384-1725-4F8A-8DF6-3EE22B2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8D8-691A-44D3-9756-8FED49FE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75D-EE8D-4A0B-8023-98E22A4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6A1-D33F-42B3-8868-22C514E0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D61-C610-405F-8ECC-E6D9B5E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F95-7936-49BF-982E-2CEB841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F27-9E08-438A-A538-93BC6AE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55D-F76E-451E-848F-640C3DE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277-8950-41CC-AA71-E37DFFB6CE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2257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49240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6T12:32:41Z</dcterms:created>
  <dc:creator>Katarzyna Zielińska</dc:creator>
  <dc:description/>
  <dc:language>en-US</dc:language>
  <cp:lastModifiedBy>Marcin Rajkowski</cp:lastModifiedBy>
  <dcterms:modified xsi:type="dcterms:W3CDTF">2022-04-27T05:37:41Z</dcterms:modified>
  <cp:revision>1</cp:revision>
  <dc:subject/>
  <dc:title>Prezentacja programu PowerPoint</dc:title>
</cp:coreProperties>
</file>